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5B3-0564-4D10-9A55-34F44621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282-524B-4858-97E1-9D9FB074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B28-555F-4B5C-81D6-9DCCB5C4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EE6-F792-41AA-BFBB-C5633979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652-A9A2-432E-B82E-8AF10E82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03B-C8FE-43E3-9301-75EA9EC8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4C8-35B1-4CE3-ABBD-1DF38376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97E-3C51-434A-9F53-228EB808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5DE-B134-44EF-A12D-91A0E571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641-BF30-431A-B853-4BFB975E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22F-A44C-42C5-A67D-5F91E6EB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441-F53A-4CBB-9C20-70CAC75E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5E85-5487-4EF8-AA01-91D51BF3C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0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Comma usage and pronoun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030400">
            <a:off x="609480" y="609120"/>
            <a:ext cx="43434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Revi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5257800"/>
            <a:ext cx="600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a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5181480"/>
            <a:ext cx="1704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redi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29200" y="5638680"/>
            <a:ext cx="145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ndrew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 rot="5400000">
            <a:off x="6822720" y="5369040"/>
            <a:ext cx="16318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ran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to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two or more introductory prepositional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ear the beginning of the trail alongside the lake, the scout leader, David, found an overturned cano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fore: and, but, or, nor, for, so, and yet when they join independent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The sky looks clear, yet rain has been forec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8800" y="533520"/>
            <a:ext cx="525780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ma Usag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20268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e a comma after an introductory adverb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: While the spartans put on their helmets, the fans in the stands started che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e commas to set off nonessential clauses and nonessential participial phr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: Jodi, who was offered scholarships to three colleges, will go to Indiana in the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14600" y="685800"/>
            <a:ext cx="40384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ore Rules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ot use unnecessary com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: Mrs. Caldwel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 put a DV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fashion catalog in the time caps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33720" y="3352680"/>
            <a:ext cx="4647960" cy="310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438280" y="380880"/>
            <a:ext cx="44960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to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of a verb is in the nominativ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ailing to write a good narrative es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dicate nominative is in the nominativ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The one you should blame for having to wat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eg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14600" y="609480"/>
            <a:ext cx="41911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onoun Referenc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should agree with its antecedent in number and in ge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ballet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un of a pronoun preceding a gerund is in the possessiv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Mrs. Caldwell objected to her student’s using the laptops when she had signed up for the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14600" y="457200"/>
            <a:ext cx="403848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re Rule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09:50Z</dcterms:created>
  <dc:creator>User</dc:creator>
  <dc:description/>
  <dc:language>en-US</dc:language>
  <cp:lastModifiedBy>User</cp:lastModifiedBy>
  <dcterms:modified xsi:type="dcterms:W3CDTF">2006-10-10T15:26:43Z</dcterms:modified>
  <cp:revision>3</cp:revision>
  <dc:subject/>
  <dc:title>Revisions</dc:title>
</cp:coreProperties>
</file>